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20E3A-2113-42D0-8E2A-88C887CF1A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752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1680" y="1488600"/>
            <a:ext cx="7737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1680" y="3911040"/>
            <a:ext cx="7737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8F47F-CC71-45CA-9890-3E3F490EAC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080" y="752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61680" y="1488600"/>
            <a:ext cx="37756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6360" y="1488600"/>
            <a:ext cx="37756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1680" y="3911040"/>
            <a:ext cx="37756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6360" y="3911040"/>
            <a:ext cx="37756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343D6-3833-4B4E-B354-EACB77D315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4080" y="752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61680" y="1488600"/>
            <a:ext cx="24912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7800" y="1488600"/>
            <a:ext cx="24912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93920" y="1488600"/>
            <a:ext cx="24912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61680" y="3911040"/>
            <a:ext cx="24912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7800" y="3911040"/>
            <a:ext cx="24912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93920" y="3911040"/>
            <a:ext cx="24912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F4528-7851-4D0A-BFC1-08277DD8A9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5E032-74A2-4671-8312-CB2F2AE77C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4080" y="752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61680" y="1488600"/>
            <a:ext cx="773748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AEF91-D1C0-4673-8E85-52164D873C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4080" y="752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61680" y="1488600"/>
            <a:ext cx="77374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CEA6B-8BC1-43B9-BEE5-1BF139678F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4080" y="752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61680" y="1488600"/>
            <a:ext cx="37756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6360" y="1488600"/>
            <a:ext cx="37756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3C05E-4B2B-463D-8168-146565E397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4080" y="752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426B4-1DBF-40F5-9096-18C4F297866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4080" y="75204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BB07A-BAC2-4768-A697-EB3E10A557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4080" y="752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61680" y="1488600"/>
            <a:ext cx="37756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6360" y="1488600"/>
            <a:ext cx="37756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61680" y="3911040"/>
            <a:ext cx="37756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D638F-6A36-4AE4-BF38-F4AEC4B780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4080" y="752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61680" y="1488600"/>
            <a:ext cx="773748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A4963-3902-464A-8A76-66A88CCBD0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4080" y="752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61680" y="1488600"/>
            <a:ext cx="37756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6360" y="1488600"/>
            <a:ext cx="37756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6360" y="3911040"/>
            <a:ext cx="37756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D8DD6-E97C-4679-AA43-798F1F1691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4080" y="752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1680" y="1488600"/>
            <a:ext cx="37756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6360" y="1488600"/>
            <a:ext cx="37756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61680" y="3911040"/>
            <a:ext cx="7737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BE4C8-2158-4873-BCD5-3B369EB375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752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61680" y="1488600"/>
            <a:ext cx="7737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1680" y="3911040"/>
            <a:ext cx="7737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B7FF9-B2E5-47A8-BA9B-FFB2FE3103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4080" y="752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61680" y="1488600"/>
            <a:ext cx="37756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6360" y="1488600"/>
            <a:ext cx="37756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61680" y="3911040"/>
            <a:ext cx="37756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6360" y="3911040"/>
            <a:ext cx="37756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88E95-EB6E-4472-A870-AF01BEF2F9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752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61680" y="1488600"/>
            <a:ext cx="24912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7800" y="1488600"/>
            <a:ext cx="24912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93920" y="1488600"/>
            <a:ext cx="24912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61680" y="3911040"/>
            <a:ext cx="24912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7800" y="3911040"/>
            <a:ext cx="24912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93920" y="3911040"/>
            <a:ext cx="24912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E34DC-8CF8-4463-932B-1F3CA9414B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4080" y="752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61680" y="1488600"/>
            <a:ext cx="77374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5AA83-A6D6-4AA5-BE14-F7FE10CA51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752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61680" y="1488600"/>
            <a:ext cx="37756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6360" y="1488600"/>
            <a:ext cx="37756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36791-7AA5-4DD4-A105-E5DCB4F3CD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080" y="752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E9B71-C4D8-4B47-BE3A-F7A0423DF3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4080" y="75204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B2B90-B5BC-4308-8342-E2B01DA952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080" y="752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61680" y="1488600"/>
            <a:ext cx="37756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6360" y="1488600"/>
            <a:ext cx="37756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1680" y="3911040"/>
            <a:ext cx="37756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33EB0-BA68-4BA3-83C8-0E6C9EBEC6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752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1680" y="1488600"/>
            <a:ext cx="37756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6360" y="1488600"/>
            <a:ext cx="37756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6360" y="3911040"/>
            <a:ext cx="37756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135CD-E775-4A52-9B68-C2E867AFB9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752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1680" y="1488600"/>
            <a:ext cx="37756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6360" y="1488600"/>
            <a:ext cx="37756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61680" y="3911040"/>
            <a:ext cx="7737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7BE81-5354-4D86-9060-FED4DFC59C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752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488600"/>
            <a:ext cx="77374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4B24-769A-4C10-B088-9932A239B943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368360" y="6475320"/>
            <a:ext cx="769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w Java Profiler – JVMTI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rcRect l="0" t="25571" r="0" b="20000"/>
          <a:stretch/>
        </p:blipFill>
        <p:spPr>
          <a:xfrm>
            <a:off x="7604280" y="0"/>
            <a:ext cx="153972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5726-6FE9-4867-95E4-D174EDC970C0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68360" y="6475320"/>
            <a:ext cx="769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w Java Profiler – JVMTI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0" t="25571" r="0" b="20000"/>
          <a:stretch/>
        </p:blipFill>
        <p:spPr>
          <a:xfrm>
            <a:off x="7604280" y="0"/>
            <a:ext cx="1539720" cy="8380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0" algn="ctr">
              <a:spcBef>
                <a:spcPts val="561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Thread Analysis Enhancements for TPTP 4.4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rbakov, Rus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affe, Asa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and Solutions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l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4080" y="752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Thread States View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372680"/>
            <a:ext cx="827388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visual representation of thread and thread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 coded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scale display, scrolling and sc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and end times of states between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gend/Customization 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elector and playback 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just call stack view for time selection and playback 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ver information 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ion of timescale 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 contention display 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** - to be implemen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D03C3-3089-4390-B9FB-A14FBAB9325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981080" y="952560"/>
            <a:ext cx="6629400" cy="2855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981080" y="3867120"/>
            <a:ext cx="6553440" cy="10666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0600" y="157320"/>
            <a:ext cx="824580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Thread States (contd.)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15200" y="2066760"/>
            <a:ext cx="0" cy="141948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5888160" y="5153040"/>
            <a:ext cx="2403360" cy="708120"/>
          </a:xfrm>
          <a:prstGeom prst="wedgeEllipseCallout">
            <a:avLst>
              <a:gd name="adj1" fmla="val 8652"/>
              <a:gd name="adj2" fmla="val -292152"/>
            </a:avLst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Time selector for playbac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3686040" y="2743200"/>
            <a:ext cx="0" cy="390600"/>
          </a:xfrm>
          <a:prstGeom prst="line">
            <a:avLst/>
          </a:prstGeom>
          <a:ln w="25560">
            <a:solidFill>
              <a:srgbClr val="f200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352760" y="2657520"/>
            <a:ext cx="0" cy="257040"/>
          </a:xfrm>
          <a:prstGeom prst="line">
            <a:avLst/>
          </a:prstGeom>
          <a:ln w="25560">
            <a:solidFill>
              <a:srgbClr val="f200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924440" y="2714760"/>
            <a:ext cx="0" cy="552240"/>
          </a:xfrm>
          <a:prstGeom prst="line">
            <a:avLst/>
          </a:prstGeom>
          <a:ln w="25560">
            <a:solidFill>
              <a:srgbClr val="f200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400720" y="2571840"/>
            <a:ext cx="0" cy="257040"/>
          </a:xfrm>
          <a:prstGeom prst="line">
            <a:avLst/>
          </a:prstGeom>
          <a:ln w="25560">
            <a:solidFill>
              <a:srgbClr val="f200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4591080" y="3067200"/>
            <a:ext cx="0" cy="266400"/>
          </a:xfrm>
          <a:prstGeom prst="line">
            <a:avLst/>
          </a:prstGeom>
          <a:ln w="25560">
            <a:solidFill>
              <a:srgbClr val="f200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762520" y="2771280"/>
            <a:ext cx="0" cy="257400"/>
          </a:xfrm>
          <a:prstGeom prst="line">
            <a:avLst/>
          </a:prstGeom>
          <a:ln w="25560">
            <a:solidFill>
              <a:srgbClr val="f200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267000" y="2428920"/>
            <a:ext cx="2895840" cy="1009440"/>
          </a:xfrm>
          <a:prstGeom prst="ellipse">
            <a:avLst/>
          </a:prstGeom>
          <a:noFill/>
          <a:ln w="50760">
            <a:solidFill>
              <a:srgbClr val="f20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4010040" y="2743200"/>
            <a:ext cx="0" cy="266760"/>
          </a:xfrm>
          <a:prstGeom prst="line">
            <a:avLst/>
          </a:prstGeom>
          <a:ln w="25560">
            <a:solidFill>
              <a:srgbClr val="f200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038560" y="2666520"/>
            <a:ext cx="0" cy="257400"/>
          </a:xfrm>
          <a:prstGeom prst="line">
            <a:avLst/>
          </a:prstGeom>
          <a:ln w="25560">
            <a:solidFill>
              <a:srgbClr val="f200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4219560" y="2629080"/>
            <a:ext cx="0" cy="571320"/>
          </a:xfrm>
          <a:prstGeom prst="line">
            <a:avLst/>
          </a:prstGeom>
          <a:ln w="25560">
            <a:solidFill>
              <a:srgbClr val="f200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3149640" y="5146560"/>
            <a:ext cx="2328840" cy="762120"/>
          </a:xfrm>
          <a:prstGeom prst="wedgeEllipseCallout">
            <a:avLst>
              <a:gd name="adj1" fmla="val 15643"/>
              <a:gd name="adj2" fmla="val -271666"/>
            </a:avLst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ad conten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320760" y="5153040"/>
            <a:ext cx="2328840" cy="762120"/>
          </a:xfrm>
          <a:prstGeom prst="wedgeEllipseCallout">
            <a:avLst>
              <a:gd name="adj1" fmla="val 22939"/>
              <a:gd name="adj2" fmla="val -341666"/>
            </a:avLst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or Legend inside the view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C8BCB-E194-4ED6-B266-279E09188A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080" y="752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Thread Analysis – Use cases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61680" y="1488600"/>
            <a:ext cx="77374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application threads and their behavior ov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ze application threading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8B19D-0B75-4A29-91AF-00BC77D992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4080" y="752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Use case – Thread Behavior Over Time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61680" y="1488600"/>
            <a:ext cx="77374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the application’s threads and their status and display information in a table view and as a color-coded graph which updates over ti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 the following information for each threa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ead 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ead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time, relative to application start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time (for terminated threads), relative to application start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state (running, waiting, sleeping, block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waiting threads, the object for which they w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blocked threads, the contended monitor for which they wa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sleeping threads, the sleep timeo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hread’s stack at the time of the last thread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 application terminates, show the following summary information for each thread: total running time, total sleeping time, total waiting time, total blocked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F60D3-3410-45CC-AA5C-85B9AC63C1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4080" y="752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Use case – Analyzing Thread Behavior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1680" y="1488600"/>
            <a:ext cx="77374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zing thread execution history (post-mor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view the application thread states at a specific point in time, including all other relevant data as described in the previous f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reason a thread is bloc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nitor for which the thread is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hread’s call stack at the “waiting”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405D3-D947-4F13-812C-ADC838AD6D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4080" y="752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JVMTI Runtime (Martini) Suppor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61680" y="1488600"/>
            <a:ext cx="77374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ead 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ead 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itor W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itor Wai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itor Contended 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itor Contended Ent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Reques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ead’s call stack. Called in the context of a thread event (see above) to obtain the thread’s stack. Returns an array of stack frames with the following inform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hod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te code (instruction)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hod line number table. Enables mapping of byte code indexes (in stack frame) to source line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19064-8E86-4394-B5BD-96DA88541C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4080" y="752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Thread Statistics View (current, TPTP 4.3)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20800" y="1441440"/>
            <a:ext cx="7504200" cy="432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8EE0A-D47C-4991-857A-FFF546D535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30120" y="1495440"/>
            <a:ext cx="7589880" cy="38480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4080" y="752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all Stack View - enhancemen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81200" y="3933720"/>
            <a:ext cx="4105080" cy="1505160"/>
          </a:xfrm>
          <a:prstGeom prst="ellipse">
            <a:avLst/>
          </a:prstGeom>
          <a:noFill/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648240" y="3562200"/>
            <a:ext cx="0" cy="409680"/>
          </a:xfrm>
          <a:prstGeom prst="line">
            <a:avLst/>
          </a:prstGeom>
          <a:ln w="50760">
            <a:solidFill>
              <a:srgbClr val="ff6600"/>
            </a:solidFill>
            <a:miter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74855-4086-453D-8702-568B1EE3C8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760" y="801360"/>
            <a:ext cx="8231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all Stack View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3200" y="1856880"/>
            <a:ext cx="8274240" cy="33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Stack View complements Thread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stack information as list of method inv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to sourc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view that supports both the Thread Statistics and the Thread St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D9DBB-827C-4811-A7B7-49581302BD8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4080" y="752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Thread States View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5520" y="4889520"/>
            <a:ext cx="8521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15960" y="1585800"/>
            <a:ext cx="7570800" cy="385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A55C0-4BC7-4575-BBD2-E09F8A3928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18:16:10Z</dcterms:created>
  <dc:creator>Intel Corporation</dc:creator>
  <dc:description/>
  <dc:language>en-US</dc:language>
  <cp:lastModifiedBy>Ruslan Scherbakov</cp:lastModifiedBy>
  <dcterms:modified xsi:type="dcterms:W3CDTF">2007-01-30T10:39:26Z</dcterms:modified>
  <cp:revision>61</cp:revision>
  <dc:subject/>
  <dc:title>Verdana Bold 3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/>
  </property>
  <property fmtid="{D5CDD505-2E9C-101B-9397-08002B2CF9AE}" pid="3" name="SPSDescription">
    <vt:lpwstr/>
  </property>
  <property fmtid="{D5CDD505-2E9C-101B-9397-08002B2CF9AE}" pid="4" name="Status">
    <vt:lpwstr/>
  </property>
</Properties>
</file>