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CCD-6237-4079-B03E-746E7C77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A40-C9D8-460F-BCC1-73A62160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A5D-AA94-4FCA-94D1-3CF29B4A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3DD-A272-4FBF-A904-1AE01C7F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9BC-662E-46E5-BB39-4B524861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200-6458-4BE0-996D-E98C276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3B0-E5A7-4E36-A829-928C90AC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2E8-52E2-4513-B471-31BAA2E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F6C-1EF0-4AEE-A219-F3975E5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30E-13FE-4228-B8EC-1EE36BB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02C-D4C1-4E2C-9435-35610F4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D11-16A8-4679-8077-82C2DA5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CE3-1B5F-470A-AA54-526740B2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ata Binding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Updatable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An updatable value wraps a single value that can be updated programmaticall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and whose changes can be tracked by registering a change listen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erface IUpdatableValue extends IUpdatabl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Sets the value of this updatable value to the given object, which must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an instance of the value type returned by getValueType(). If the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type is an object type, then the given value may be &lt;/code&gt;null&lt;/code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TODO return a statu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setValue(Object valu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Returns the current value, which must be an instance of the value 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returned by getValueType(). If the value type is an object type, then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returned value may be &lt;/code&gt;null&lt;/code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@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Object getValu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Returns the type of the values that this updatable value can hold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method's return value does not change ove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@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Class getValueTyp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UpdatableList, IUpdatabl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erface IUpdatableList extends IUpdatabl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 getSiz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 addElement(Object value, int inde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removeElement(int inde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setElement(int row, Object valu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Object getElement(int row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Class getElementTyp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erface IUpdatableTable extends IUpdatableList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Class[] getColumnType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Object getValue(int row, int colum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setValue(int row, int column, Object valu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inding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Binds the given target to the given model value, using the gi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converters to convert between target values and model values, and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given validator to validate target values. First, the target value w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be set to the current model value, using the modelToTargetConver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Subsequently, whenever one of the values changes, the other value will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updated, using the matching converter. The model value will only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updated if the given validator successfully validates the curren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valu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bindValue(final IUpdatableValue target, final IUpdatableValue mode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final IConverter targetToModelConverter, final IConverter modelToTargetConver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final IValidator targetValidat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IChangeListener listener = new IChangeListener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handleChange(IChangeEvent changeEven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if (changeEvent.getUpdatable() == targe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/ the target (usually a widget) has changed, validat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/ value and update the 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Object value = target.getValu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String validationError = targetValidator.isValid(valu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updateValidationError(validation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if (validationError == null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model.setValue(targetToModelConverter.convert(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target.setValue(modelToTargetConverter.convert(model.getValue()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target.addChangeListener(listen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model.addChangeListener(listen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target.setValue(modelToTargetConverter.convert(model.getValue()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validate, and how is this spec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ocu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(think button for OK or S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-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election of a list, a table, or a tree determines the ‘master objec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trols are bound to values derived from that maste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re edits sa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the user selects a new master, but the current edits are unsaved (e.g., when they are not vali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hould be one line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require new or custom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ustom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other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in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s the value or state of two ‘updatabl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call them ‘target’ and ‘mod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inding time, the current state of the model is copied to th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at, it’s symmetric: Updates on either side are tracked and copied to the other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ate is not of the same type, you need to convert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ncern: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or upda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target s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a tex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a sp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/max of a sp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ment state of a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color of a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election of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model s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of mode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java.util.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java.io.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cy, length (unit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a, age (not negativ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numer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ress (of a company, a pers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ding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, int, float, Date, monetary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cyc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should be de-registered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roper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needed before conver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converting to int, float,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object or reco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before sa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end time must be after start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oss multiple objects o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time uncl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sum of percentages must be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conversion should be part of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ata types from/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-specific conversion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amounts ($ 1,096.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/date conversion (locale, time z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Upda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An updatable supports listening to its chang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interface IUpdatabl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Add the given change listener to this updatable. Has no effect i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identical listener is already register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&lt;p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Change listeners are informed about state changes that affect the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or structure of this updatable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&lt;/p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@param changeListe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addChangeListener(IChangeListener changeListen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Removes a change listener from this updatable. Has no effect if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identical listener is not register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removeChangeListener(IChangeListener changeListen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Disposes of this updatable. This removes all remaining change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 from this updat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public void dispos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3:24:41Z</dcterms:created>
  <dc:creator>Boris Bokowski</dc:creator>
  <dc:description/>
  <dc:language>en-US</dc:language>
  <cp:lastModifiedBy>Boris Bokowski</cp:lastModifiedBy>
  <dcterms:modified xsi:type="dcterms:W3CDTF">2005-09-22T14:02:41Z</dcterms:modified>
  <cp:revision>3</cp:revision>
  <dc:subject/>
  <dc:title>Data Binding</dc:title>
</cp:coreProperties>
</file>